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698-C246-4916-94C0-4BBB63F0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865-5632-4C80-A1AE-ABF3E95D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A1A-BCB7-4165-92EA-92362EB1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FCB-F5D1-42DB-A2DF-E6BA759D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1ED5-9DDD-4381-8BEC-3C038952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891A-A24F-45FB-8E30-46D5CC5F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3121-B256-4C16-9145-2C3E6321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ED6E-417F-4DD9-B4B6-BD84917F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FD9E-9749-47ED-9B45-A0485A18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6595-019C-45E0-A363-23258A0F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A9A9-66C2-4ED4-B6D7-130BF09B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03F-57EA-41AE-BB40-20AA686F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080F-0003-46F5-A182-DB33EF6B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C726-87B7-42A7-94A2-6CDBABF2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E347-510B-4AD6-9802-759115C4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FDFE-D571-4873-972D-0F6FDDB5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D0D5-F4F9-4129-9681-B9639977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41B-3D07-442F-99E5-2CC6A447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414-5375-4B7C-A25A-25FEAFEE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FB1-C1D5-4538-AA2A-C2C1A32A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AA3-A5FE-4670-8489-87BE24A1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DB7-0B0C-46D6-BFCC-EE54EC93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4ED8-6D9E-4BF1-8074-7E3833A7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B36-1294-412F-94C2-FB619709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21C7-1480-43EB-A578-AB5F9BCCABA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51B7-3191-41A9-906B-C01921F0494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OB ANALY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urposes of job analys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urces of job analysis in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thods of job analys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ob evalu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urces of inaccuracy in job analys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gni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8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accuracy in Job Analy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A assumes information is reliable and without err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urces of Inaccura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– Created by normative pressures from the social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gnitive – Limitations on ability to process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8000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Effects of inaccuracy on job analysis data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rater relia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rater agre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riminability between job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mensionality of factor structure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an rating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teness of job in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8000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sources of inaccurac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cial influence proces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876"/>
              </a:spcAft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sure to confor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876"/>
              </a:spcAft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tremity shifts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876"/>
              </a:spcAft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tivation los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spcAft>
                <a:spcPts val="876"/>
              </a:spcAft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loaf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spcAft>
                <a:spcPts val="876"/>
              </a:spcAft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 ri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f-presentation proces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749"/>
              </a:spcAft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pression managemen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749"/>
              </a:spcAft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desirabili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749"/>
              </a:spcAft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mand eff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8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Cognitive sources of inaccuracy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imitations in information processing syst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tion overlo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uristic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presentative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vailabi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choring and adjust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tegoriz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8000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gnitive sources (cont.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iases in information processing syst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reless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traneous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adequat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der and contrast effect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l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niency and sever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 eff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8000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inimizing Inaccurac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tain job info from multiple sour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a variety of research method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 process clear and understandable for the respond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pervise data collection closely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ilot stud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nitoring questionnaire comple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briefing respond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ffects of inaccuracies on job analysis da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cial sources of inaccura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influence proces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lf-presentation proces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gnitive sources of inaccura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mitations in information processing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iases in information process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nimizing inaccurac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8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at is job analysi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inition:  a method for describing jobs and the human attributes necessary to perform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wo approach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b orient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son orient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8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urposes of Job Analy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gal issu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formance apprais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reer develop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8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urces of Job Analysis In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o provides information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bject matter experts (job incumbents and supervisor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alys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is information collected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rforming the jo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bserving incumbents perform the jo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rviewing S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veying S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thods of Job Analy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ask inventor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ime spent on ta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portance of task, difficulty of learn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29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ctional Job Analys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opl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ng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29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ritical incidents techniq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8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thods, cont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b Components Inven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ols and equip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rceptual and physical requi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thematical requi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munication requi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cision making and responsibil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sition Analysis Questionnai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formation inp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diation proce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rk outp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rpersonal activ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rk situation and job contex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scellaneous aspec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b Evalu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inition -- family of quantitative techniques used to determine the salary levels of job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is job evaluation importan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 Pay Act of 196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arable Wor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b Evaluation Methods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spcAft>
                <a:spcPts val="1874"/>
              </a:spcAft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Ranking -- rank order the jobs according to each jobs relative worth or value to the organization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spcAft>
                <a:spcPts val="1874"/>
              </a:spcAft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Classification -- placing all jobs into a predetermined taxonomy of grades or classes (like the DOT)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spcAft>
                <a:spcPts val="1874"/>
              </a:spcAft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Point systems -- assign points to various levels of skill, knowledge, responsibility, working conditions, then summing the points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8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Aft>
                <a:spcPts val="29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ebd189"/>
                </a:solidFill>
                <a:latin typeface="Arial"/>
              </a:rPr>
              <a:t>Summary</a:t>
            </a:r>
            <a:endParaRPr b="0" lang="en-US" sz="47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2126"/>
              </a:spcAft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Arial"/>
              </a:rPr>
              <a:t>Purposes of job analysis</a:t>
            </a:r>
            <a:endParaRPr b="0" lang="en-US" sz="3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2126"/>
              </a:spcAft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Arial"/>
              </a:rPr>
              <a:t>Sources of job analysis information</a:t>
            </a:r>
            <a:endParaRPr b="0" lang="en-US" sz="3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874"/>
              </a:spcAft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Who provides information?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874"/>
              </a:spcAft>
              <a:buClr>
                <a:srgbClr val="b97c01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How is information collected?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2126"/>
              </a:spcAft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Arial"/>
              </a:rPr>
              <a:t>Job analysis methods</a:t>
            </a:r>
            <a:endParaRPr b="0" lang="en-US" sz="3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2126"/>
              </a:spcAft>
              <a:buClr>
                <a:srgbClr val="fcab40"/>
              </a:buClr>
              <a:buSzPct val="8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Arial"/>
              </a:rPr>
              <a:t>Job evaluation – purpose and methods</a:t>
            </a:r>
            <a:endParaRPr b="0" lang="en-US" sz="3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8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3T03:33:26Z</dcterms:created>
  <dc:creator/>
  <dc:description/>
  <dc:language>en-US</dc:language>
  <cp:lastModifiedBy>Guru</cp:lastModifiedBy>
  <cp:lastPrinted>1998-09-08T00:02:52Z</cp:lastPrinted>
  <dcterms:modified xsi:type="dcterms:W3CDTF">2010-01-08T10:07:07Z</dcterms:modified>
  <cp:revision>0</cp:revision>
  <dc:subject/>
  <dc:title>Job Analysis</dc:title>
</cp:coreProperties>
</file>